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018-E5CA-452B-A7D1-D0FFFD50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B58-2989-4B8A-B9E2-698EEF74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7EB-A7FA-42E3-9386-13FCB471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F8F-7686-4297-9E84-1841A03E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6E5-97B1-4ACB-B4A3-E6CD09A5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BCC-45E2-4BFD-8929-8EC4C25C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18A-63F8-46A8-BCDD-D4B2A5D3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9DE-32B4-4685-A8DF-3DCEF1E0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667-47DC-4F09-9B92-4AF3C8E5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6F1-789B-409A-ABED-6A27CA9B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F3D-8972-414D-8F71-6B7EB1B7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57F-3485-41C9-946B-963065FB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D31B-1585-452E-9B36-B1D19BDA62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7848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2060640"/>
            <a:ext cx="7056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07932" dir="2700000" blurRad="0" rotWithShape="0">
                    <a:srgbClr val="990000">
                      <a:alpha val="50000"/>
                    </a:srgbClr>
                  </a:outerShdw>
                </a:effectLst>
                <a:latin typeface="华文行楷"/>
              </a:rPr>
              <a:t>比和比例总复习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07932" dir="2700000" blurRad="0" rotWithShape="0">
                  <a:srgbClr val="99000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8900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981000"/>
            <a:ext cx="813564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按比例分配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按比例分配问题的特征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按比例分配问题与平均数问题的区别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按比例分配问题解题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284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练习题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:  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个三角形三个内角度数比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这个三角形的三个内角分别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3657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做个长方体模型，共需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米长的铁丝，这个长方体的长宽高的比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则这个长方体的长宽高分别是多少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5084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长方体的表面积是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37372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5084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体积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6165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18900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981000"/>
            <a:ext cx="813564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比例尺的应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数值比例尺和线段比例尺区别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已知图上距离和实际距离，求比例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已知图上距离和比例尺，求实际距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已知实际距离和比例尺，求图上距离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8307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练习题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:  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在一幅地图上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厘米代表实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千米，这幅地图的比例尺是多少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905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在比例尺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平面图上量的一间教室长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厘米，宽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厘米，这间教室占地面积是多少平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537372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9280" y="18900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981000"/>
            <a:ext cx="813564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怎么解正、反比例应用题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正、反比例应用题的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解正、反比例应用题一般方法和步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997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练习题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:  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台拖拉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耕地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9.2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公顷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可以耕地多少公顷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3860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制造一批零件，计划每天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完成。实际每天超产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，多少天就能完成这批零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537372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486900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797360"/>
            <a:ext cx="799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个筑路队修一条公路，原计划每天修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千米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完成，实际每天比原计划多修了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5%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际多少天可以完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981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解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484280"/>
            <a:ext cx="8229600" cy="844560"/>
            <a:chOff x="914400" y="1484280"/>
            <a:chExt cx="8229600" cy="844560"/>
          </a:xfrm>
        </p:grpSpPr>
        <p:sp>
          <p:nvSpPr>
            <p:cNvPr id="125" name=""/>
            <p:cNvSpPr/>
            <p:nvPr/>
          </p:nvSpPr>
          <p:spPr>
            <a:xfrm>
              <a:off x="914400" y="1555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=15:10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:x=0.3:0.5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4298760" y="1484280"/>
                  <a:ext cx="327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"/>
          <p:cNvSpPr/>
          <p:nvPr/>
        </p:nvSpPr>
        <p:spPr>
          <a:xfrm>
            <a:off x="2766600" y="1989000"/>
            <a:ext cx="68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化简下列各比并求比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4920" y="4005360"/>
            <a:ext cx="9144000" cy="2196360"/>
            <a:chOff x="34920" y="4005360"/>
            <a:chExt cx="9144000" cy="2196360"/>
          </a:xfrm>
        </p:grpSpPr>
        <p:sp>
          <p:nvSpPr>
            <p:cNvPr id="129" name=""/>
            <p:cNvSpPr/>
            <p:nvPr/>
          </p:nvSpPr>
          <p:spPr>
            <a:xfrm>
              <a:off x="34920" y="4157280"/>
              <a:ext cx="9144000" cy="17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.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.4            2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.8             1—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.8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千克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吨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厘米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米         —日 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083040" y="4005360"/>
              <a:ext cx="609480" cy="1038240"/>
              <a:chOff x="3083040" y="4005360"/>
              <a:chExt cx="609480" cy="1038240"/>
            </a:xfrm>
          </p:grpSpPr>
          <p:sp>
            <p:nvSpPr>
              <p:cNvPr id="131" name=""/>
              <p:cNvSpPr/>
              <p:nvPr/>
            </p:nvSpPr>
            <p:spPr>
              <a:xfrm>
                <a:off x="3083040" y="446220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83040" y="400536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054840" y="4005360"/>
              <a:ext cx="533160" cy="961920"/>
              <a:chOff x="6054840" y="4005360"/>
              <a:chExt cx="533160" cy="961920"/>
            </a:xfrm>
          </p:grpSpPr>
          <p:sp>
            <p:nvSpPr>
              <p:cNvPr id="134" name=""/>
              <p:cNvSpPr/>
              <p:nvPr/>
            </p:nvSpPr>
            <p:spPr>
              <a:xfrm>
                <a:off x="6054840" y="4385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4840" y="400536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40040" y="5300280"/>
              <a:ext cx="533160" cy="825120"/>
              <a:chOff x="1940040" y="5300280"/>
              <a:chExt cx="533160" cy="825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40040" y="560484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40040" y="53002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121520" y="5224320"/>
              <a:ext cx="609480" cy="977400"/>
              <a:chOff x="7121520" y="5224320"/>
              <a:chExt cx="609480" cy="977400"/>
            </a:xfrm>
          </p:grpSpPr>
          <p:sp>
            <p:nvSpPr>
              <p:cNvPr id="140" name=""/>
              <p:cNvSpPr/>
              <p:nvPr/>
            </p:nvSpPr>
            <p:spPr>
              <a:xfrm>
                <a:off x="7121520" y="56811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21520" y="52243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042920" y="2421000"/>
                <a:ext cx="2303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211640" y="2421000"/>
                <a:ext cx="2952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3419640" y="333360"/>
            <a:ext cx="2665080" cy="719280"/>
            <a:chOff x="3419640" y="333360"/>
            <a:chExt cx="2665080" cy="719280"/>
          </a:xfrm>
        </p:grpSpPr>
        <p:sp>
          <p:nvSpPr>
            <p:cNvPr id="145" name=""/>
            <p:cNvSpPr/>
            <p:nvPr/>
          </p:nvSpPr>
          <p:spPr>
            <a:xfrm>
              <a:off x="3419640" y="404640"/>
              <a:ext cx="2665080" cy="64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51280" y="33336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必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98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9800" y="1989000"/>
            <a:ext cx="18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419640" y="333360"/>
            <a:ext cx="2665080" cy="719280"/>
            <a:chOff x="3419640" y="333360"/>
            <a:chExt cx="2665080" cy="719280"/>
          </a:xfrm>
        </p:grpSpPr>
        <p:sp>
          <p:nvSpPr>
            <p:cNvPr id="151" name=""/>
            <p:cNvSpPr/>
            <p:nvPr/>
          </p:nvSpPr>
          <p:spPr>
            <a:xfrm>
              <a:off x="3419640" y="404640"/>
              <a:ext cx="2665080" cy="64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1280" y="33336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必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68360" y="1413000"/>
            <a:ext cx="8351640" cy="4044960"/>
            <a:chOff x="468360" y="1413000"/>
            <a:chExt cx="8351640" cy="4044960"/>
          </a:xfrm>
        </p:grpSpPr>
        <p:sp>
          <p:nvSpPr>
            <p:cNvPr id="154" name=""/>
            <p:cNvSpPr/>
            <p:nvPr/>
          </p:nvSpPr>
          <p:spPr>
            <a:xfrm>
              <a:off x="468360" y="2217240"/>
              <a:ext cx="8351640" cy="32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一幅地图的线段比例尺是　　　　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它表示实际距离是图上距离的（　　　）倍。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在一个比例里，两个外项的积是最小的质数，一个内项是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0.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另一个内项是（　　　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在        的图纸上，一个正方形的面积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平方厘米，它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实际面积是（　　　　）平方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④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一车水果重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吨，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比例分配给甲、乙、丙三个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水果店，乙水果店分得这批水果的（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把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克盐放入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克水中，盐与盐水重量的最简整数比是（　　　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356000" y="1413000"/>
              <a:ext cx="2664000" cy="438840"/>
              <a:chOff x="4356000" y="1413000"/>
              <a:chExt cx="2664000" cy="43884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4500720" y="1708200"/>
                <a:ext cx="1871280" cy="143640"/>
                <a:chOff x="4500720" y="1708200"/>
                <a:chExt cx="1871280" cy="143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500720" y="1851840"/>
                  <a:ext cx="1871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00720" y="1708200"/>
                  <a:ext cx="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1600" y="1708200"/>
                  <a:ext cx="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13560" y="1708200"/>
                  <a:ext cx="216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372000" y="1708200"/>
                  <a:ext cx="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4356000" y="142092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88000" y="142092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35640" y="14130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96000" y="142092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千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1138320" y="3200400"/>
                  <a:ext cx="6969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9079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二、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9800" y="1989000"/>
            <a:ext cx="18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419640" y="333360"/>
            <a:ext cx="2665080" cy="719280"/>
            <a:chOff x="3419640" y="333360"/>
            <a:chExt cx="2665080" cy="719280"/>
          </a:xfrm>
        </p:grpSpPr>
        <p:sp>
          <p:nvSpPr>
            <p:cNvPr id="171" name=""/>
            <p:cNvSpPr/>
            <p:nvPr/>
          </p:nvSpPr>
          <p:spPr>
            <a:xfrm>
              <a:off x="3419640" y="404640"/>
              <a:ext cx="2665080" cy="64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1280" y="33336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必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5280" y="134136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麦的出粉率一定，小麦的总重量和面粉的重量成正比例关系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因为甲数：乙数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所以甲数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乙数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车轮的直径一定，车轮转动的周数和所行路程成正比例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如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反比例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成反比例，那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正比例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如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×3=b×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:b=5: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=8x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正比例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半径与直径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甲地到乙地，甲车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，乙车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，甲车和乙车的速度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836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、选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9800" y="1989000"/>
            <a:ext cx="18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19640" y="189000"/>
            <a:ext cx="2665080" cy="718560"/>
            <a:chOff x="3419640" y="189000"/>
            <a:chExt cx="2665080" cy="718560"/>
          </a:xfrm>
        </p:grpSpPr>
        <p:sp>
          <p:nvSpPr>
            <p:cNvPr id="178" name=""/>
            <p:cNvSpPr/>
            <p:nvPr/>
          </p:nvSpPr>
          <p:spPr>
            <a:xfrm>
              <a:off x="3419640" y="259920"/>
              <a:ext cx="266508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51280" y="18900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必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24000" y="119700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糖溶解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水中，糖与糖水的比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个圆的直径与周长的比是（　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批产品，合格产品与不合格产品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这批产品的不合格率是（　）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5%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同一个圆里，周长与直径（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成正比例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成反比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不成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个三角形内角度数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这个三角形（　）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钝角三角形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锐角三角形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直角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条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的线段画在比例尺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图中，要比画在比例尺只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图中（　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长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短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一样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两个圆的直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周长比是（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836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、应用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00" y="1989000"/>
            <a:ext cx="18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19640" y="189000"/>
            <a:ext cx="2665080" cy="718560"/>
            <a:chOff x="3419640" y="189000"/>
            <a:chExt cx="2665080" cy="718560"/>
          </a:xfrm>
        </p:grpSpPr>
        <p:sp>
          <p:nvSpPr>
            <p:cNvPr id="185" name=""/>
            <p:cNvSpPr/>
            <p:nvPr/>
          </p:nvSpPr>
          <p:spPr>
            <a:xfrm>
              <a:off x="3419640" y="259920"/>
              <a:ext cx="266508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51280" y="18900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必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24000" y="1413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3413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种农药水是用药和水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成的，要配制这种农药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0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克，需要药粉多少千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一批零件，如果每天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可以做完，现在要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完成，平均每天做多少个？（比例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甲地到乙地的公路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。一辆汽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行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6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。照这样计算，行完全还需要几小时？（比例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甲乙丙三种商品总价值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。按数量，甲与乙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: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乙与丙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:2.5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单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甲与乙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:2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与丙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: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三种商品各值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比例尺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:3000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地图上，量得两地距离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，甲乙两车同时从两地相向而行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后两车相遇。已知甲乙两车的速度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: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求甲乙两车的速度各是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468360" y="449280"/>
            <a:ext cx="8351640" cy="2653560"/>
            <a:chOff x="468360" y="449280"/>
            <a:chExt cx="8351640" cy="2653560"/>
          </a:xfrm>
        </p:grpSpPr>
        <p:sp>
          <p:nvSpPr>
            <p:cNvPr id="190" name=""/>
            <p:cNvSpPr/>
            <p:nvPr/>
          </p:nvSpPr>
          <p:spPr>
            <a:xfrm>
              <a:off x="468360" y="449280"/>
              <a:ext cx="8351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张师傅加工一批零件，第一天完成的个数与零件的总个数的比是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: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。如果再加工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，就可以完成这批零件的一半。这批零件共有多少个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一件工作，甲单独做要用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时，乙单独做要用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时。甲做完    后，两人合作，还要几小时才能做完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一个工厂由于采用新工艺，现在每件产品的成本是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37.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元，比原来降低了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。原来每件产品的成本是多少元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甲乙两列火车从相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米的两地同时相向开出，经过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时正好相遇。已知甲乙两列火车的速度之比是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两列火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每小时各行多少千米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3598920" y="2060640"/>
                  <a:ext cx="39672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03032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一项工作，甲乙合作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天完成，已知甲乙效率的比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甲乙两队单独完成各需要多少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419640" y="333360"/>
            <a:ext cx="2665080" cy="719280"/>
            <a:chOff x="3419640" y="333360"/>
            <a:chExt cx="2665080" cy="719280"/>
          </a:xfrm>
        </p:grpSpPr>
        <p:sp>
          <p:nvSpPr>
            <p:cNvPr id="195" name=""/>
            <p:cNvSpPr/>
            <p:nvPr/>
          </p:nvSpPr>
          <p:spPr>
            <a:xfrm>
              <a:off x="3419640" y="404640"/>
              <a:ext cx="2665080" cy="64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51280" y="33336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选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32640" y="1916280"/>
            <a:ext cx="5266080" cy="792000"/>
            <a:chOff x="2132640" y="1916280"/>
            <a:chExt cx="5266080" cy="792000"/>
          </a:xfrm>
        </p:grpSpPr>
        <p:sp>
          <p:nvSpPr>
            <p:cNvPr id="198" name=""/>
            <p:cNvSpPr/>
            <p:nvPr/>
          </p:nvSpPr>
          <p:spPr>
            <a:xfrm>
              <a:off x="2132640" y="2062080"/>
              <a:ext cx="52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甲是乙的    ，丙是乙的   ，甲：乙：丙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506680" y="1916280"/>
                  <a:ext cx="5526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4716360" y="1916280"/>
                  <a:ext cx="4240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" name=""/>
          <p:cNvGrpSpPr/>
          <p:nvPr/>
        </p:nvGrpSpPr>
        <p:grpSpPr>
          <a:xfrm>
            <a:off x="684360" y="3716280"/>
            <a:ext cx="2665080" cy="719280"/>
            <a:chOff x="684360" y="3716280"/>
            <a:chExt cx="2665080" cy="719280"/>
          </a:xfrm>
        </p:grpSpPr>
        <p:sp>
          <p:nvSpPr>
            <p:cNvPr id="202" name=""/>
            <p:cNvSpPr/>
            <p:nvPr/>
          </p:nvSpPr>
          <p:spPr>
            <a:xfrm>
              <a:off x="684360" y="3787560"/>
              <a:ext cx="2665080" cy="64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16000" y="371628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思考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39640" y="2637000"/>
            <a:ext cx="7993080" cy="761760"/>
            <a:chOff x="539640" y="2637000"/>
            <a:chExt cx="7993080" cy="761760"/>
          </a:xfrm>
        </p:grpSpPr>
        <p:sp>
          <p:nvSpPr>
            <p:cNvPr id="205" name=""/>
            <p:cNvSpPr/>
            <p:nvPr/>
          </p:nvSpPr>
          <p:spPr>
            <a:xfrm>
              <a:off x="539640" y="2773440"/>
              <a:ext cx="79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、某工厂由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1240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人，女职工的   与男职工   同样多，那么男、女职工各有多少人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508360" y="2637000"/>
                  <a:ext cx="3812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164360" y="2637000"/>
                  <a:ext cx="42372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8" name=""/>
          <p:cNvGrpSpPr/>
          <p:nvPr/>
        </p:nvGrpSpPr>
        <p:grpSpPr>
          <a:xfrm>
            <a:off x="611280" y="4508640"/>
            <a:ext cx="8281800" cy="1081080"/>
            <a:chOff x="611280" y="4508640"/>
            <a:chExt cx="8281800" cy="1081080"/>
          </a:xfrm>
        </p:grpSpPr>
        <p:sp>
          <p:nvSpPr>
            <p:cNvPr id="209" name=""/>
            <p:cNvSpPr/>
            <p:nvPr/>
          </p:nvSpPr>
          <p:spPr>
            <a:xfrm>
              <a:off x="611280" y="4508640"/>
              <a:ext cx="828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两个绳子一共长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5.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米，如果第一根绳子增加它的     ，第二根绳子减少它的     ，则两根绳子一样长。球第一根绳子原来多长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403280" y="4869000"/>
                  <a:ext cx="4795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5508720" y="4797360"/>
                  <a:ext cx="5317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一、复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268280"/>
            <a:ext cx="878544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熟练掌握比和比例的意义及基本性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能熟练的掌握化简比和求比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掌握比例尺的意义，并解答相关的比例尺的应用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理解比例的基本性质，能熟练的解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正确判断正比例、反比例关系，并能解答正、反比例应用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分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607040"/>
            <a:ext cx="914400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六年级一班有男生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人，女生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六年级一班男生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女生人数的比是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(           )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522936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99"/>
                </a:solidFill>
                <a:latin typeface="Arial"/>
              </a:rPr>
              <a:t>6∶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4046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与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60280"/>
            <a:ext cx="896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六一班男生和女生人数的比是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。男生人数和全班人数的比是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(           )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，女生人数和全班人数的比是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(             )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500280"/>
            <a:ext cx="316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6∶ 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5445000"/>
            <a:ext cx="36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5∶ 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476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六年级一班有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人，男生和女生人数的比是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。女生有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422100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99"/>
                </a:solidFill>
                <a:latin typeface="Arial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9280" y="-84240"/>
            <a:ext cx="9144000" cy="1865520"/>
            <a:chOff x="179280" y="-84240"/>
            <a:chExt cx="9144000" cy="1865520"/>
          </a:xfrm>
        </p:grpSpPr>
        <p:sp>
          <p:nvSpPr>
            <p:cNvPr id="222" name=""/>
            <p:cNvSpPr/>
            <p:nvPr/>
          </p:nvSpPr>
          <p:spPr>
            <a:xfrm>
              <a:off x="179280" y="189000"/>
              <a:ext cx="9144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66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1" lang="zh-CN" sz="6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6600" spc="-1" strike="noStrike">
                  <a:solidFill>
                    <a:srgbClr val="000000"/>
                  </a:solidFill>
                  <a:latin typeface="Arial"/>
                </a:rPr>
                <a:t>的比值是（   ）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67920" y="-84240"/>
                  <a:ext cx="676440" cy="186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4" name=""/>
          <p:cNvSpPr/>
          <p:nvPr/>
        </p:nvSpPr>
        <p:spPr>
          <a:xfrm>
            <a:off x="6588000" y="260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0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00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如果前项乘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要使比值不变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后项应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59280" y="2781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也乘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076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如果前项和后项都除以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比值是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522936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0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李师傅昨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时做了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零件，今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时做了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零件。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65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李师傅昨天所做零件个数和所用时间的比是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6720" y="357336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72</a:t>
            </a:r>
            <a:r>
              <a:rPr b="1" lang="en-US" sz="6000" spc="-1" strike="noStrike">
                <a:solidFill>
                  <a:srgbClr val="009999"/>
                </a:solidFill>
                <a:latin typeface="宋体"/>
              </a:rPr>
              <a:t>∶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李师傅今天所做零件个数和所用时间的比是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537372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96</a:t>
            </a:r>
            <a:r>
              <a:rPr b="1" lang="en-US" sz="6000" spc="-1" strike="noStrike">
                <a:solidFill>
                  <a:srgbClr val="009999"/>
                </a:solidFill>
                <a:latin typeface="宋体"/>
              </a:rPr>
              <a:t>∶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476280"/>
            <a:ext cx="914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42920" y="155736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Arial"/>
              </a:rPr>
              <a:t>72∶6= 96∶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26920" y="1052640"/>
            <a:ext cx="71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Arial"/>
              </a:rPr>
              <a:t>72∶6= 96∶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971640" y="3284640"/>
            <a:ext cx="2735280" cy="1528920"/>
            <a:chOff x="971640" y="3284640"/>
            <a:chExt cx="2735280" cy="1528920"/>
          </a:xfrm>
        </p:grpSpPr>
        <p:sp>
          <p:nvSpPr>
            <p:cNvPr id="238" name=""/>
            <p:cNvSpPr/>
            <p:nvPr/>
          </p:nvSpPr>
          <p:spPr>
            <a:xfrm>
              <a:off x="971640" y="3284640"/>
              <a:ext cx="273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48000" y="35006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500720" y="3213000"/>
            <a:ext cx="2735280" cy="1528920"/>
            <a:chOff x="4500720" y="3213000"/>
            <a:chExt cx="2735280" cy="1528920"/>
          </a:xfrm>
        </p:grpSpPr>
        <p:sp>
          <p:nvSpPr>
            <p:cNvPr id="241" name=""/>
            <p:cNvSpPr/>
            <p:nvPr/>
          </p:nvSpPr>
          <p:spPr>
            <a:xfrm>
              <a:off x="4500720" y="3213000"/>
              <a:ext cx="273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77080" y="342900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42920" y="1125360"/>
            <a:ext cx="6050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22766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Arial"/>
              </a:rPr>
              <a:t>72∶6= 96∶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276720" y="3429000"/>
            <a:ext cx="2016000" cy="1673280"/>
            <a:chOff x="3276720" y="3429000"/>
            <a:chExt cx="2016000" cy="1673280"/>
          </a:xfrm>
        </p:grpSpPr>
        <p:grpSp>
          <p:nvGrpSpPr>
            <p:cNvPr id="246" name=""/>
            <p:cNvGrpSpPr/>
            <p:nvPr/>
          </p:nvGrpSpPr>
          <p:grpSpPr>
            <a:xfrm>
              <a:off x="3419640" y="3429000"/>
              <a:ext cx="1800000" cy="215640"/>
              <a:chOff x="3419640" y="3429000"/>
              <a:chExt cx="1800000" cy="215640"/>
            </a:xfrm>
          </p:grpSpPr>
          <p:sp>
            <p:nvSpPr>
              <p:cNvPr id="247" name=""/>
              <p:cNvSpPr/>
              <p:nvPr/>
            </p:nvSpPr>
            <p:spPr>
              <a:xfrm>
                <a:off x="3419640" y="3429000"/>
                <a:ext cx="0" cy="21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19640" y="3644640"/>
                <a:ext cx="180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19640" y="3429000"/>
                <a:ext cx="0" cy="21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3276720" y="3789360"/>
              <a:ext cx="201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57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477440" y="907920"/>
            <a:ext cx="5615640" cy="1513080"/>
            <a:chOff x="1477440" y="907920"/>
            <a:chExt cx="5615640" cy="1513080"/>
          </a:xfrm>
        </p:grpSpPr>
        <p:grpSp>
          <p:nvGrpSpPr>
            <p:cNvPr id="252" name=""/>
            <p:cNvGrpSpPr/>
            <p:nvPr/>
          </p:nvGrpSpPr>
          <p:grpSpPr>
            <a:xfrm>
              <a:off x="1477440" y="2205360"/>
              <a:ext cx="5615640" cy="215640"/>
              <a:chOff x="1477440" y="2205360"/>
              <a:chExt cx="5615640" cy="21564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7093080" y="2205360"/>
                <a:ext cx="0" cy="21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1477440" y="2205360"/>
                <a:ext cx="5615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477440" y="2205360"/>
                <a:ext cx="0" cy="21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3419640" y="907920"/>
              <a:ext cx="2303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57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1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1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6077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A×3=B×5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，那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（   ）</a:t>
            </a: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328464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08720" y="3213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979640" y="4221000"/>
            <a:ext cx="2305080" cy="216000"/>
            <a:chOff x="1979640" y="4221000"/>
            <a:chExt cx="2305080" cy="216000"/>
          </a:xfrm>
        </p:grpSpPr>
        <p:sp>
          <p:nvSpPr>
            <p:cNvPr id="261" name=""/>
            <p:cNvSpPr/>
            <p:nvPr/>
          </p:nvSpPr>
          <p:spPr>
            <a:xfrm>
              <a:off x="1979640" y="4221000"/>
              <a:ext cx="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9640" y="4437000"/>
              <a:ext cx="23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84720" y="4221000"/>
              <a:ext cx="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50920" y="4724280"/>
            <a:ext cx="7415640" cy="217080"/>
            <a:chOff x="250920" y="4724280"/>
            <a:chExt cx="7415640" cy="217080"/>
          </a:xfrm>
        </p:grpSpPr>
        <p:sp>
          <p:nvSpPr>
            <p:cNvPr id="265" name=""/>
            <p:cNvSpPr/>
            <p:nvPr/>
          </p:nvSpPr>
          <p:spPr>
            <a:xfrm>
              <a:off x="250920" y="4724280"/>
              <a:ext cx="0" cy="217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0920" y="4941360"/>
              <a:ext cx="741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66560" y="4724280"/>
              <a:ext cx="0" cy="217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915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4= 3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306864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8424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二、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125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26828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765000"/>
            <a:ext cx="82803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相关概念考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什么是比？                   比的基本性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比和除法、分数之间的关系？三者关系用字母怎样表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什么是化简比？              怎样求比值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比例的意义是什么？ 什么是比例的基本性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怎样判断两个比成比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怎样判断两个相关联的量成正比例或反比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6191280"/>
            <a:ext cx="288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00000" y="-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求比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134028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0.24∶0.6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4360" y="2708280"/>
            <a:ext cx="2763720" cy="2016000"/>
            <a:chOff x="684360" y="2708280"/>
            <a:chExt cx="2763720" cy="2016000"/>
          </a:xfrm>
        </p:grpSpPr>
        <p:sp>
          <p:nvSpPr>
            <p:cNvPr id="273" name=""/>
            <p:cNvSpPr/>
            <p:nvPr/>
          </p:nvSpPr>
          <p:spPr>
            <a:xfrm>
              <a:off x="684360" y="3139200"/>
              <a:ext cx="22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160720" y="2708280"/>
                  <a:ext cx="128736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5" name=""/>
          <p:cNvSpPr/>
          <p:nvPr/>
        </p:nvSpPr>
        <p:spPr>
          <a:xfrm>
            <a:off x="4363200" y="3631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1268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0.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314172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4360" y="2708280"/>
            <a:ext cx="2763720" cy="2016000"/>
            <a:chOff x="684360" y="2708280"/>
            <a:chExt cx="2763720" cy="2016000"/>
          </a:xfrm>
        </p:grpSpPr>
        <p:sp>
          <p:nvSpPr>
            <p:cNvPr id="279" name=""/>
            <p:cNvSpPr/>
            <p:nvPr/>
          </p:nvSpPr>
          <p:spPr>
            <a:xfrm>
              <a:off x="684360" y="3139200"/>
              <a:ext cx="22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2160720" y="2708280"/>
                  <a:ext cx="128736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化简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141300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.25∶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68360" y="2852640"/>
            <a:ext cx="2374920" cy="1657080"/>
            <a:chOff x="468360" y="2852640"/>
            <a:chExt cx="2374920" cy="1657080"/>
          </a:xfrm>
        </p:grpSpPr>
        <p:grpSp>
          <p:nvGrpSpPr>
            <p:cNvPr id="285" name=""/>
            <p:cNvGrpSpPr/>
            <p:nvPr/>
          </p:nvGrpSpPr>
          <p:grpSpPr>
            <a:xfrm>
              <a:off x="468360" y="2852640"/>
              <a:ext cx="2374920" cy="1657080"/>
              <a:chOff x="468360" y="2852640"/>
              <a:chExt cx="2374920" cy="165708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468360" y="2923920"/>
                    <a:ext cx="934920" cy="1584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7" name=""/>
                  <p:cNvSpPr txBox="1"/>
                  <p:nvPr/>
                </p:nvSpPr>
                <p:spPr>
                  <a:xfrm>
                    <a:off x="1979640" y="2852640"/>
                    <a:ext cx="863640" cy="165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88" name=""/>
            <p:cNvSpPr/>
            <p:nvPr/>
          </p:nvSpPr>
          <p:spPr>
            <a:xfrm>
              <a:off x="1042920" y="3211920"/>
              <a:ext cx="93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20" y="3827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32360" y="1557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∶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3213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∶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68360" y="187920"/>
            <a:ext cx="41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解比例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68360" y="1197000"/>
            <a:ext cx="5040000" cy="1944720"/>
            <a:chOff x="468360" y="1197000"/>
            <a:chExt cx="5040000" cy="1944720"/>
          </a:xfrm>
        </p:grpSpPr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468360" y="1917720"/>
                  <a:ext cx="8143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χ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1694520" y="1270080"/>
                  <a:ext cx="704160" cy="180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4796280" y="1197000"/>
                  <a:ext cx="712080" cy="194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900720" y="1701000"/>
              <a:ext cx="108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87960" y="1718280"/>
              <a:ext cx="28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12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720" y="403776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84360" y="3573360"/>
            <a:ext cx="3095280" cy="1655640"/>
            <a:chOff x="684360" y="3573360"/>
            <a:chExt cx="3095280" cy="165564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684360" y="3573360"/>
              <a:ext cx="82188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527120" y="3803760"/>
              <a:ext cx="67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2371680" y="3731400"/>
                  <a:ext cx="1407960" cy="149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"/>
          <p:cNvGrpSpPr/>
          <p:nvPr/>
        </p:nvGrpSpPr>
        <p:grpSpPr>
          <a:xfrm>
            <a:off x="468360" y="1197000"/>
            <a:ext cx="5040000" cy="1944720"/>
            <a:chOff x="468360" y="1197000"/>
            <a:chExt cx="5040000" cy="1944720"/>
          </a:xfrm>
        </p:grpSpPr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68360" y="1917720"/>
                  <a:ext cx="8143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χ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694520" y="1270080"/>
                  <a:ext cx="704160" cy="180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4796280" y="1197000"/>
                  <a:ext cx="712080" cy="194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0" name=""/>
            <p:cNvSpPr/>
            <p:nvPr/>
          </p:nvSpPr>
          <p:spPr>
            <a:xfrm>
              <a:off x="900720" y="1701000"/>
              <a:ext cx="108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87960" y="1718280"/>
              <a:ext cx="28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12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559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判断下面每题中的两种量是否成比例，成什么比例，并说明理由。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5167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圆柱的体积一定，它的底面积和高。（            ）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99628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反比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85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每天生产的服装件数一定，生产的天数和总件数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4360" y="5660280"/>
            <a:ext cx="51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正比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被减数一定，减数和差。（               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981000"/>
            <a:ext cx="561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Arial"/>
              </a:rPr>
              <a:t>不成比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228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每公顷的施肥量一定，公顷数和施肥总量。（                  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465228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正比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24260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化肥厂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天生产化肥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吨。照这样计算，要生产化肥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吨，需要多少天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149256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铁路工人用每根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米的新铁轨替换原来每根长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米的旧铁轨，共换下旧铁轨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根。需要换上新铁轨多少根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9640" y="907920"/>
          <a:ext cx="7632720" cy="5648400"/>
        </p:xfrm>
        <a:graphic>
          <a:graphicData uri="http://schemas.openxmlformats.org/drawingml/2006/table">
            <a:tbl>
              <a:tblPr/>
              <a:tblGrid>
                <a:gridCol w="1697040"/>
                <a:gridCol w="2766960"/>
                <a:gridCol w="316872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示两个数相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示两个比相等的式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各部分的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= 1 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项    比号    后项       比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=    3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的基本性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的前项和后项同时乘或除以相同的数（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外），比值不变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比例里，两个外项的积等于两内项的积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化简比的根据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比例的根据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 flipV="1">
            <a:off x="241128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771640" y="335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35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995640" y="3357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386064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19640" y="33559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883640" y="342720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3933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外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796000" y="321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093080" y="321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3573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3573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26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拾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0464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333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32200" y="266760"/>
            <a:ext cx="40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和比例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比和除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数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1773360"/>
          <a:ext cx="8611920" cy="4103280"/>
        </p:xfrm>
        <a:graphic>
          <a:graphicData uri="http://schemas.openxmlformats.org/drawingml/2006/table">
            <a:tbl>
              <a:tblPr/>
              <a:tblGrid>
                <a:gridCol w="1722240"/>
                <a:gridCol w="1781640"/>
                <a:gridCol w="1663200"/>
                <a:gridCol w="1722600"/>
                <a:gridCol w="172224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联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后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除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数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数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数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044720" y="-360"/>
            <a:ext cx="897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求比值和化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1197000"/>
          <a:ext cx="8540640" cy="5183280"/>
        </p:xfrm>
        <a:graphic>
          <a:graphicData uri="http://schemas.openxmlformats.org/drawingml/2006/table">
            <a:tbl>
              <a:tblPr/>
              <a:tblGrid>
                <a:gridCol w="2134800"/>
                <a:gridCol w="2135160"/>
                <a:gridCol w="2135520"/>
                <a:gridCol w="21351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意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求比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项除以后项所得的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前项除以后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个数（是整数，分数或小数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化简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把两个数的比化成最简单的整数比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项和后项都乘或除以同一个数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外）也可以用求比值的方法，用前项除以后项，得出一个分数值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个比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97308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比例和反比例的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比例意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种相关联的量，一种量变化，另一种量也随着变化，如果这两种量相对应的两个数的比值一定，这两种量就叫做成正比例的量，它们的关系叫做正比例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比例关系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 : x = 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比例的意义：两种相关联的量，一种量变化，另一种量也随着变化，如果这两种量相对应的两个数的乘积一定，这两种量就叫做成反比例的量，它们的关系叫做反比例关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比例关系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y = k 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252360" y="146160"/>
            <a:ext cx="48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125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26828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0920" y="333360"/>
            <a:ext cx="7705800" cy="2064600"/>
            <a:chOff x="250920" y="333360"/>
            <a:chExt cx="7705800" cy="2064600"/>
          </a:xfrm>
        </p:grpSpPr>
        <p:sp>
          <p:nvSpPr>
            <p:cNvPr id="79" name=""/>
            <p:cNvSpPr/>
            <p:nvPr/>
          </p:nvSpPr>
          <p:spPr>
            <a:xfrm>
              <a:off x="250920" y="333360"/>
              <a:ext cx="77058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、（   ）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5=27:15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4788000" y="981000"/>
                  <a:ext cx="2592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</m:d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2916360" y="242100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50920" y="2060640"/>
            <a:ext cx="8066160" cy="882720"/>
            <a:chOff x="250920" y="2060640"/>
            <a:chExt cx="8066160" cy="882720"/>
          </a:xfrm>
        </p:grpSpPr>
        <p:sp>
          <p:nvSpPr>
            <p:cNvPr id="83" name=""/>
            <p:cNvSpPr/>
            <p:nvPr/>
          </p:nvSpPr>
          <p:spPr>
            <a:xfrm>
              <a:off x="250920" y="2205000"/>
              <a:ext cx="806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、如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763640" y="2060640"/>
                  <a:ext cx="108108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3059280" y="2205000"/>
              <a:ext cx="396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那么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：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y=( ):(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0920" y="31370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把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.5×60=3×1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改写成一个比例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3933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.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5%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.0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这五个数中，选四个数组成一个比例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          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157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如果三角形面积一定，那么它的底和高成（  ）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6165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260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981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1052640"/>
            <a:ext cx="8209080" cy="1141560"/>
            <a:chOff x="468360" y="1052640"/>
            <a:chExt cx="8209080" cy="1141560"/>
          </a:xfrm>
        </p:grpSpPr>
        <p:sp>
          <p:nvSpPr>
            <p:cNvPr id="93" name=""/>
            <p:cNvSpPr/>
            <p:nvPr/>
          </p:nvSpPr>
          <p:spPr>
            <a:xfrm>
              <a:off x="468360" y="1125360"/>
              <a:ext cx="820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、甲数的  与乙数的  相等，甲和乙的最简比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。                             （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413080" y="1052640"/>
                  <a:ext cx="36360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4260960" y="1052640"/>
                  <a:ext cx="38412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" name=""/>
          <p:cNvSpPr/>
          <p:nvPr/>
        </p:nvSpPr>
        <p:spPr>
          <a:xfrm>
            <a:off x="395280" y="234936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如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b+3=1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则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成反比例。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141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与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比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393372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比例尺一定时，图上距离与实际距离成正比例。                                     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15772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1577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件工作，甲单独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小时完成，乙单独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小时完成，甲与乙的工作效率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  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6165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9:30:44Z</dcterms:created>
  <dc:creator>微软用户</dc:creator>
  <dc:description/>
  <dc:language>en-US</dc:language>
  <cp:lastModifiedBy>微软用户</cp:lastModifiedBy>
  <dcterms:modified xsi:type="dcterms:W3CDTF">2016-05-24T03:03:04Z</dcterms:modified>
  <cp:revision>15</cp:revision>
  <dc:subject/>
  <dc:title>`</dc:title>
</cp:coreProperties>
</file>